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E7-8C9F-4B10-B8B4-229884F9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F6F-6834-47DA-B999-06434028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060-B767-4A89-82C3-CBC9E2E1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171-A4AF-4E87-BB61-9163E19C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C2-6543-4612-A354-2DF35C06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DE4-1480-4B77-BD2C-6789433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38F-D29F-4FB0-8300-86078CBC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EA8-0EDD-4313-B648-8012CA2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BEF-06D6-4697-9AA3-6BE1ABE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46A-4F33-45B8-BCFC-FDF79CC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B7F-1879-43A2-A264-DC6E364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794-B0EF-463D-83C5-9410264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1BA3-4B5E-4FC5-949B-8E9F2D32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kic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loc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pok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1. packag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P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oe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wr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35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o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k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re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oc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stick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drin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peac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st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-2666880" y="3808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22824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nick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pac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crack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22824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p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st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quick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289548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11-17T23:52:21Z</dcterms:modified>
  <cp:revision>7</cp:revision>
  <dc:subject/>
  <dc:title>The Art Lesson Group A</dc:title>
</cp:coreProperties>
</file>